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46D-2583-4640-9D47-E41F62C4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EDE-B554-4E99-A4B1-0FB6BA2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AC3-4232-4600-8240-62D8A8BB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DE7-F18A-47D6-B956-A92EED81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F00E-CF18-4CF7-88FA-1C621522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80CC-CFEB-400C-A8A6-04B9B768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A135-A7F2-4D88-B026-31D51CF0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3B60-4BB9-48EB-A01C-6715E5F7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C8D7-9D6E-4683-B025-F5F414CE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A502-2749-4719-A735-74FAA1EF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F890-DC9A-4529-AD9D-2511355D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6B2-68CD-4062-B9B6-3BF7C10E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9572-E9C7-4A47-B087-21CD4B5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9C6F-9578-486F-AA5F-EF6A0788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048-D317-4756-B8B3-BB68ECA3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2365-1567-409D-A85D-90FEB0BC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E641-0F0B-40D1-9F54-5336C210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31C-8B8F-44B7-A841-097F4D6A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6BF-8F5C-4D60-92BA-05830185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F86-16A0-4F93-B49D-42C5326D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60D-2FCA-42EC-A3BD-71EF595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FC3-B1DD-4414-B260-C191928D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2DA-8209-4C3D-8BDB-6632E832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095-BADA-431E-8737-AB5DDB59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54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EEE5-0F0D-4E00-A7DB-E73C8B212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4702-A50D-4C76-ADD8-DF5373D03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j0282809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25 is ¼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5% also means 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0640" y="388620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029200" y="3352680"/>
          <a:ext cx="3881520" cy="28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52680"/>
                    <a:ext cx="388152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7010280" y="3276720"/>
            <a:ext cx="152424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3465360" cy="3224160"/>
            <a:chOff x="685800" y="3124080"/>
            <a:chExt cx="3465360" cy="3224160"/>
          </a:xfrm>
        </p:grpSpPr>
        <p:graphicFrame>
          <p:nvGraphicFramePr>
            <p:cNvPr id="165" name=""/>
            <p:cNvGraphicFramePr/>
            <p:nvPr/>
          </p:nvGraphicFramePr>
          <p:xfrm>
            <a:off x="762120" y="3124080"/>
            <a:ext cx="1407960" cy="13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1240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685800" y="4952880"/>
            <a:ext cx="1407960" cy="1395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49528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2743200" y="3124080"/>
            <a:ext cx="1407960" cy="1395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1240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2743200" y="4952880"/>
            <a:ext cx="1407960" cy="1395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43200" y="4952880"/>
                      <a:ext cx="140796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3" name=""/>
          <p:cNvGrpSpPr/>
          <p:nvPr/>
        </p:nvGrpSpPr>
        <p:grpSpPr>
          <a:xfrm>
            <a:off x="228600" y="3809880"/>
            <a:ext cx="3048120" cy="2590920"/>
            <a:chOff x="228600" y="3809880"/>
            <a:chExt cx="3048120" cy="2590920"/>
          </a:xfrm>
        </p:grpSpPr>
        <p:sp>
          <p:nvSpPr>
            <p:cNvPr id="174" name=""/>
            <p:cNvSpPr/>
            <p:nvPr/>
          </p:nvSpPr>
          <p:spPr>
            <a:xfrm>
              <a:off x="228600" y="3809880"/>
              <a:ext cx="83808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556272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8280" y="3809880"/>
              <a:ext cx="83844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2320" y="556272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means 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of 8 lemons is 2 lem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0320" y="3581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86200" y="3048120"/>
            <a:ext cx="2173320" cy="2935080"/>
            <a:chOff x="3886200" y="3048120"/>
            <a:chExt cx="2173320" cy="2935080"/>
          </a:xfrm>
        </p:grpSpPr>
        <p:graphicFrame>
          <p:nvGraphicFramePr>
            <p:cNvPr id="183" name=""/>
            <p:cNvGraphicFramePr/>
            <p:nvPr/>
          </p:nvGraphicFramePr>
          <p:xfrm>
            <a:off x="3886200" y="3048120"/>
            <a:ext cx="954000" cy="64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886200" y="3809880"/>
            <a:ext cx="954000" cy="6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3886200" y="4572000"/>
            <a:ext cx="954000" cy="6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"/>
            <p:cNvGraphicFramePr/>
            <p:nvPr/>
          </p:nvGraphicFramePr>
          <p:xfrm>
            <a:off x="3886200" y="5334120"/>
            <a:ext cx="954000" cy="649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5105520" y="3048120"/>
            <a:ext cx="954000" cy="64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0552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5105520" y="3809880"/>
            <a:ext cx="95400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0552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5105520" y="4572000"/>
            <a:ext cx="954000" cy="649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0552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5105520" y="5334120"/>
            <a:ext cx="954000" cy="649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10552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"/>
          <p:cNvGrpSpPr/>
          <p:nvPr/>
        </p:nvGrpSpPr>
        <p:grpSpPr>
          <a:xfrm>
            <a:off x="7238880" y="3733920"/>
            <a:ext cx="954360" cy="1411200"/>
            <a:chOff x="7238880" y="3733920"/>
            <a:chExt cx="954360" cy="1411200"/>
          </a:xfrm>
        </p:grpSpPr>
        <p:graphicFrame>
          <p:nvGraphicFramePr>
            <p:cNvPr id="200" name=""/>
            <p:cNvGraphicFramePr/>
            <p:nvPr/>
          </p:nvGraphicFramePr>
          <p:xfrm>
            <a:off x="7238880" y="3733920"/>
            <a:ext cx="954360" cy="649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38880" y="3733920"/>
                      <a:ext cx="95436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7238880" y="4495680"/>
            <a:ext cx="954360" cy="649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38880" y="4495680"/>
                      <a:ext cx="954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25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08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11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00200" y="2362320"/>
            <a:ext cx="3048120" cy="53316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371600"/>
            <a:ext cx="6095880" cy="9907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25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09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parts out of 100 or 25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1371600"/>
          <a:ext cx="6095880" cy="5175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10 is 1/10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% also means 1/1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3505320"/>
            <a:ext cx="75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262480" y="2819520"/>
          <a:ext cx="388152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2480" y="2819520"/>
                    <a:ext cx="388152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162920" y="2971800"/>
            <a:ext cx="1523880" cy="990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" y="2514600"/>
            <a:ext cx="3429000" cy="3886200"/>
            <a:chOff x="457200" y="2514600"/>
            <a:chExt cx="3429000" cy="3886200"/>
          </a:xfrm>
        </p:grpSpPr>
        <p:sp>
          <p:nvSpPr>
            <p:cNvPr id="233" name=""/>
            <p:cNvSpPr/>
            <p:nvPr/>
          </p:nvSpPr>
          <p:spPr>
            <a:xfrm>
              <a:off x="457200" y="25146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440" y="25909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6280" y="350532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358128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360" y="449568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2600" y="457200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4440" y="54864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1680" y="55627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52480" y="2514600"/>
              <a:ext cx="83844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09720" y="25909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71560" y="3505320"/>
              <a:ext cx="83844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358128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90640" y="4495680"/>
              <a:ext cx="83844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47880" y="4572000"/>
              <a:ext cx="62856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54864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86040" y="5562720"/>
              <a:ext cx="62856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251460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5000" y="2590920"/>
              <a:ext cx="628920" cy="51408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8120" y="3581280"/>
              <a:ext cx="838080" cy="914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05000" y="3657600"/>
              <a:ext cx="628920" cy="514440"/>
            </a:xfrm>
            <a:custGeom>
              <a:avLst/>
              <a:gdLst/>
              <a:ahLst/>
              <a:rect l="l" t="t" r="r" b="b"/>
              <a:pathLst>
                <a:path w="396" h="324">
                  <a:moveTo>
                    <a:pt x="396" y="60"/>
                  </a:moveTo>
                  <a:cubicBezTo>
                    <a:pt x="372" y="50"/>
                    <a:pt x="304" y="0"/>
                    <a:pt x="252" y="0"/>
                  </a:cubicBezTo>
                  <a:cubicBezTo>
                    <a:pt x="200" y="0"/>
                    <a:pt x="124" y="28"/>
                    <a:pt x="84" y="60"/>
                  </a:cubicBezTo>
                  <a:cubicBezTo>
                    <a:pt x="44" y="92"/>
                    <a:pt x="24" y="148"/>
                    <a:pt x="12" y="192"/>
                  </a:cubicBezTo>
                  <a:cubicBezTo>
                    <a:pt x="0" y="236"/>
                    <a:pt x="12" y="297"/>
                    <a:pt x="12" y="3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914400" y="2819520"/>
            <a:ext cx="3124080" cy="3657600"/>
            <a:chOff x="914400" y="2819520"/>
            <a:chExt cx="3124080" cy="3657600"/>
          </a:xfrm>
        </p:grpSpPr>
        <p:sp>
          <p:nvSpPr>
            <p:cNvPr id="254" name=""/>
            <p:cNvSpPr/>
            <p:nvPr/>
          </p:nvSpPr>
          <p:spPr>
            <a:xfrm>
              <a:off x="91440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1440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90720" y="472428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6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0968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0968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09680" y="480060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09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5320" y="281952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5320" y="3809880"/>
              <a:ext cx="533160" cy="762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means 1/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of 10 ice creams is 1 ice 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9960" y="320040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352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%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200400" y="2895480"/>
            <a:ext cx="2624040" cy="2108160"/>
            <a:chOff x="3200400" y="2895480"/>
            <a:chExt cx="2624040" cy="2108160"/>
          </a:xfrm>
        </p:grpSpPr>
        <p:graphicFrame>
          <p:nvGraphicFramePr>
            <p:cNvPr id="269" name=""/>
            <p:cNvGraphicFramePr/>
            <p:nvPr/>
          </p:nvGraphicFramePr>
          <p:xfrm>
            <a:off x="3200400" y="2895480"/>
            <a:ext cx="490680" cy="88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"/>
            <p:cNvGraphicFramePr/>
            <p:nvPr/>
          </p:nvGraphicFramePr>
          <p:xfrm>
            <a:off x="3733920" y="2895480"/>
            <a:ext cx="490320" cy="88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4267080" y="2895480"/>
            <a:ext cx="490680" cy="88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4800600" y="2895480"/>
            <a:ext cx="490680" cy="88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"/>
            <p:cNvGraphicFramePr/>
            <p:nvPr/>
          </p:nvGraphicFramePr>
          <p:xfrm>
            <a:off x="5334120" y="2895480"/>
            <a:ext cx="490320" cy="889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341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3200400" y="4114800"/>
            <a:ext cx="490680" cy="888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04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3733920" y="4114800"/>
            <a:ext cx="490320" cy="88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4267080" y="4114800"/>
            <a:ext cx="490680" cy="888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6708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4800600" y="4114800"/>
            <a:ext cx="490680" cy="888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006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5334120" y="4114800"/>
            <a:ext cx="490320" cy="888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341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9" name=""/>
          <p:cNvGraphicFramePr/>
          <p:nvPr/>
        </p:nvGraphicFramePr>
        <p:xfrm>
          <a:off x="7467480" y="3352680"/>
          <a:ext cx="490680" cy="889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67480" y="3352680"/>
                    <a:ext cx="4906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1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95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98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93320" y="3352680"/>
              <a:ext cx="101880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748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3880" y="1371600"/>
            <a:ext cx="6096240" cy="5335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1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 parts out of 100 or 1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523880" y="137160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cent means “out of 100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41148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200400"/>
            <a:ext cx="10670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” comes from the Lat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means 100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3048120"/>
          <a:ext cx="193356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193356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352680" y="2514600"/>
            <a:ext cx="5105520" cy="2971800"/>
          </a:xfrm>
          <a:prstGeom prst="wedgeRoundRectCallout">
            <a:avLst>
              <a:gd name="adj1" fmla="val -64800"/>
              <a:gd name="adj2" fmla="val 1255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2590920"/>
            <a:ext cx="48006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words have come from the root cent such as century, centimeter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ipede, &amp; c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letter C in Roman Numer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nds for 100 or “cent”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3352680"/>
          <a:ext cx="2009520" cy="30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200952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9880" y="3581280"/>
            <a:ext cx="4343400" cy="1295640"/>
          </a:xfrm>
          <a:prstGeom prst="wedgeRoundRectCallout">
            <a:avLst>
              <a:gd name="adj1" fmla="val -79166"/>
              <a:gd name="adj2" fmla="val 3149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581280"/>
            <a:ext cx="4233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C means th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dr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ercent and Money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write our change from 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llar in hundredth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276720"/>
            <a:ext cx="4190760" cy="2209680"/>
          </a:xfrm>
          <a:prstGeom prst="wedgeRoundRectCallout">
            <a:avLst>
              <a:gd name="adj1" fmla="val -71402"/>
              <a:gd name="adj2" fmla="val -6467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352680"/>
            <a:ext cx="42339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underst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, learn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s is a breez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CRTA1127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2328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50 is ½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0% also means 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1349280" cy="1400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1349280" cy="140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548640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73392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7280" y="38098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14800" y="3352680"/>
          <a:ext cx="3881520" cy="28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52680"/>
                    <a:ext cx="388152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172200" y="3276720"/>
            <a:ext cx="152388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means 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of 6 stars is 3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1720" y="373392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91120" y="3200400"/>
            <a:ext cx="1676160" cy="2666880"/>
            <a:chOff x="4191120" y="3200400"/>
            <a:chExt cx="1676160" cy="2666880"/>
          </a:xfrm>
        </p:grpSpPr>
        <p:sp>
          <p:nvSpPr>
            <p:cNvPr id="126" name=""/>
            <p:cNvSpPr/>
            <p:nvPr/>
          </p:nvSpPr>
          <p:spPr>
            <a:xfrm>
              <a:off x="419112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320040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419112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5181480"/>
              <a:ext cx="609480" cy="6098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3200400"/>
            <a:ext cx="609480" cy="2666880"/>
            <a:chOff x="7086600" y="3200400"/>
            <a:chExt cx="609480" cy="2666880"/>
          </a:xfrm>
        </p:grpSpPr>
        <p:sp>
          <p:nvSpPr>
            <p:cNvPr id="133" name=""/>
            <p:cNvSpPr/>
            <p:nvPr/>
          </p:nvSpPr>
          <p:spPr>
            <a:xfrm>
              <a:off x="708660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660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660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212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141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144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1295280"/>
            <a:ext cx="6096240" cy="25909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5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 parts out of 100 or 5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2084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Doug</cp:lastModifiedBy>
  <dcterms:modified xsi:type="dcterms:W3CDTF">2003-06-24T03:11:23Z</dcterms:modified>
  <cp:revision>22</cp:revision>
  <dc:subject/>
  <dc:title>Percent</dc:title>
</cp:coreProperties>
</file>